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-360" y="-11095560"/>
            <a:ext cx="360" cy="235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4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C1F-575B-42F1-A7CA-A749BC0D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418104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0B1-F7F9-4CE7-B763-245A721C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552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174-56A7-4340-A0EA-A7C81828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448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448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3F0-0035-4A3C-94A8-BD162F93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DF9E-AA1D-4718-B604-A289EF21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7621-6153-4041-9019-62B88772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D5A0-22D3-4DDC-9AE3-F9D6503F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4D77-BB4F-48B0-AD37-156F4E0D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8594-7896-4526-B4B2-8169139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100080"/>
            <a:ext cx="79790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4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6A45-726A-4506-B625-205C51F8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24F6-936A-45EC-8758-8AED7FC9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D2A-0C14-4D9B-AE67-63E3D86A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552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001B-260C-4208-9958-3DBC8D2B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AA9B-82F6-485C-96BD-E3FCEE9D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418104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345C-DC90-4CD1-946A-0CE9163D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552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F89F-5957-47C9-81C4-EABF136A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75248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181040"/>
            <a:ext cx="25689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15FA-6B47-4748-A63A-0F78B35D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5CC-6ED3-47C4-93C8-DBAF258D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69A-806B-4362-B7E8-F036F2F4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690-F65B-43CE-8FA4-9BC9F5A4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100080"/>
            <a:ext cx="797904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4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101-5A15-4668-A60D-1B916A96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263-B07B-458E-ADDD-5B3770D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5520" y="418104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104-341B-4664-AE38-2195EB2E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5520" y="1752480"/>
            <a:ext cx="38937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4181040"/>
            <a:ext cx="79790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4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D84-FEFD-4BE4-9180-499202BB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100080"/>
            <a:ext cx="79790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79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7148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7180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71800" indent="-387360">
              <a:lnSpc>
                <a:spcPct val="114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71800" indent="-387360">
              <a:lnSpc>
                <a:spcPct val="114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59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73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59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4FDC73-FD43-4DAE-90F9-53A316E941A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39600"/>
            <a:ext cx="775008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82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7352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82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ED443F-40D5-46AD-A6D6-6912036F89A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72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7148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71800" indent="-387360">
              <a:lnSpc>
                <a:spcPct val="114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71800" indent="-387360">
              <a:lnSpc>
                <a:spcPct val="114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71800" indent="-387360">
              <a:lnSpc>
                <a:spcPct val="114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preendedorism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0760" indent="-320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Projecções financeir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assos e Etapas a Considerar na Análi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dições de certez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diferentes variáveis assumem valores dentro de determinadas amplitudes; estes valores são os que, à partida, se pensa serem os mais prováve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dições de incertez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variáveis mais significativas são identificadas assim como a sua possível gama de variação. São estimados, para cada variável, os valores mais prováveis de ocorrência e as probabilidades de ocorrênc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892600" y="1752480"/>
            <a:ext cx="33494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Custos e Benefícios de 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-782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nálise da rendibilidade empresarial deve ser baseada nos custos e benefícios que os projectos originam, envolve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identificação da quantidade, qualidade e cronologia do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inpu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outpu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físic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tribuição de preços apropriados aos consumos e produções para ser possível calcular os respectivos valores de custos e benefíci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Custos e Benefícios de 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elaboração de orçamentos ou mapas previsionais (elementos de base para a análise) onde se comparam os custos (de investimento e de exploração) e os benefíci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medição dos resultados utilizando critérios que dêem indicações sobre a rendibilidade e eficiência económica do projecto em termos absolutos e em termos de comparação com projectos alternativ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ustos e benefícios d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benefícios correspondem ao valor dos recursos libertados pelo projecto, ou seja, ao valor dos recursos recuperados mais a compensação que resultará em virtude da desutilidade enfrentada pelos promotores ou pela comunidade, em consequência da aplicação dos recursos que o projecto utiliz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duzem-se nos proveitos que o projecto gera ao longo das sua vida útil decorrentes do valor das vendas e outros proveitos contabilizados na conta de exploração previsional e no valor residual do investimento no fim da sua vida út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ustos e benefícios d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custos de investimento são os valores monetários dos bens usados, correspondentes ao capital fixo corpóreo, incorpóreo e ao acréscimo de fundo de maneio necessário para um adequado funcionamento do projec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699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custos de exploração ou de funcionamento correspondem aos consumos intermédios e serviços utilizados na produção, como sejam, as matérias-primas e subsidiárias, energia e combustíveis, despesas com pessoa e outros contabilizados na conta de exploração prevision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Custos (Encargos) Fix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am da mera existência dos factores de produção fixos que constituem o aparelho de produção da empresa, sendo o seu montante independente dos serviços por eles fornecido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custos fixos são aqueles que, como a própria designação indica, se mantêm constantes em cada ano, independentemente do grau de utilização dos bens que lhes dão orig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amortizações das máquinas são exemplo de um custo fix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Custos (Encargos) Variáve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seu montante depende do nível de aplicação dos factores de produção a que se referem; estes custos serão inexistentes se, por absurdo, o empresário decidir não produzi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custos com combustíveis, matérias-primas e trabalho eventual são variáveis, uma vez que o respectivo nível de aplicação pode variar de ano para ano, dependendo dos quantitativos de produção que se obtêm ou pretendem ob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Mapas financeiros previsiona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monstração de resultados (conta de exploração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monstração de fluxos de caixa (plano de financiamento, saldo de tesouraria, plano financeiro, mapa origem e aplicação fundo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lanç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sh-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tivas ao Invest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576520" indent="-449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sistem na descrição dos diferentes investimentos previstos no projecto, na determinação dos custos que originarão e na definição dos seus prazos de implementação (do escalonamento tempor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57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tivas ao Financiamento dos Proj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576520" indent="-449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sistem na descrição e determinação dos diferentes fluxos financeiros associados à realização do projecto e no seu escalonamento tempor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iclo de Vida ou de Planeament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concepção e de formul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ecução ou realiz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ploração ou funcionamen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tin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tivas à Exploração dos Proj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576520" indent="-449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istem na determinação dos diferentes benefícios e custos anuais previstos com a implementação do projecto e no seu escalonamento temporal ao longo do período de vida út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Investiment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descritivo caracterizador dos investimentos a efectuar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mapa síntese dos investimentos em valor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alendário (ou cronograma) de execução dos mesm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devem incluir a determinação de investimentos de substituição e dos valores residuais que os capitais assumem, em especial no termo do período de vida útil do projec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inanciamento dos Proj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finem a estrutura do capital - capital social, empréstimos a contrair, etc. e determinar as obrigações financeiras decorrentes do mesmo - juros, quotas de reembolso e outras obrigações financeiras -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lano de financiamento a médio e longo prazo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grama de financiamento a médio e longo prazo tem, pois, de considerar também os benefícios e custos anuais de exploração originados por transacções de recursos reais. Deve apresentar, ano a ano, todas as origens e aplicações de fundos, discriminando os montantes de cada origem e aplica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inanciamento dos Proj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ção d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orçamentos de tesouraria previsionai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que evidenciem a situação de liquidez da exploração do projecto. Deles devem constar todos os recebimentos e pagamentos estimados a partir das previsões de todos os “items” de custos e provei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É preciso considerar também a elaboração d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balanços previsionai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que se obtêm da conjugação dos estudos anteri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xploração dos Proj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i não só os gastos de exploração anuais com matérias-primas, com mão de obra, etc., mas igualmente os custos devidos ao investimento e ao financiamento (e que se retiram dos estudos relativos ao investimento e ao financiament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partir da determinação previsional dos proveitos e custos de um projecto é possível elaborar orçamentos anuais e plurianuais e extrair resultados potenciais que ajudem a caracterizar a exploração do projecto e a rendibilidade que apresen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çamentos ou map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-78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 tipo plurianu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ara os benefícios e os custos, em cada um dos anos, ao longo de toda a vida útil do projecto; é adequado para os investimentos com um período de maturação longo (quando há um espaçamento de alguns ano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679400" indent="-78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 tipo anu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206856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comparação entre benefícios e custos é feita somente para um dos anos do período de pleno desenvolvimento do projecto; pode ser usado nos casos em que o período de maturação dos investimentos é reduzido (dois a três ano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çamentos ou map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21049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2700360" y="2830320"/>
            <a:ext cx="1440" cy="249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700360" y="5300640"/>
            <a:ext cx="352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979640" y="2924280"/>
            <a:ext cx="66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U.M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435640" y="54450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mp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V="1">
            <a:off x="2700360" y="3838680"/>
            <a:ext cx="28728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2987640" y="3860640"/>
            <a:ext cx="32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2700360" y="4149720"/>
            <a:ext cx="352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6156360" y="4221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us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300720" y="371628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enefícios projec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2700360" y="3622320"/>
            <a:ext cx="2448000" cy="17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148360" y="3645000"/>
            <a:ext cx="107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364000" y="3284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enefícios projec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Investiment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50000"/>
              </a:lnSpc>
              <a:spcBef>
                <a:spcPts val="71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crifício consubstanciado na troca de satisfação actual – associada ao custo suportado para investir – por satisfação futura – associada aos fluxos financeiros esperados (Soare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2007: 75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Investimento (capital investi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omponentes físicas e financeiras do investimento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apital (ou valor) residual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Duração do investim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8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Investimento (capital investi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Montante monetário que é necessário afectar para implementar o investimento e garantir as adequadas condições de funcionamento das actividades operacionais que lhe estão associadas (Soares </a:t>
            </a:r>
            <a:r>
              <a:rPr b="0" i="1" lang="en-GB" sz="17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, 2007: 76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omponente física: Capital físico (ou imobilizado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omponente financeira: Necessidades de fundo de maneio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Fases da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ex-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e, "...não só para identificar as diferentes implicações de qualquer projecto de desenvolvimento e para assegurar que as medidas adequadas de controlo venham a ser adoptadas, mas também e sobretudo, como instrumento que garanta que, na tomada de decisões, haja uma clara consciência dos vários efeitos positivos e negativos do projecto" (Vaz, 199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apital físico (imobiliza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Montante afecto à aquisição ou construção de bens de investimento tangíveis (máquinas, equipamentos, edifícios, etc.) e intangíveis (licenças, etc.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O investimento em capital físico tem lugar no início da vida do projecto, podendo também ocorrer ao longo do mesmo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apital físico (imobiliza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mobilizado Corpóreo - integra todos os bens imobilizados tangíveis, móveis ou imóveis, que a empresa utiliza na sua actividade operacional, que não se destinem a ser vendidos ou transformados, com carácter de permanência e vida útil superior a um ano (ex. terrenos, edifícios e construções, máquinas e equipamentos, ferramentas etc.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apital físico (imobilizado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mobilizado Incorpóreo - integra os bens intangíveis englobando, nomeadamente, direitos e despesas de constituição, arranque e expansão, trespasses, propriedade industrial e outros direitos, estudos e project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43120"/>
            <a:ext cx="80010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Necessidades de fundo de maneio (NFM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empresa tem de mobilizar meios financeiros para, por exemplo, sustentar o crédito que concede aos clientes ou para constituir existência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Esta aplicação adicional de meios financeiros tem de se manter ao longo da vida do projecto, pelo que as necessidades de fundo de maneio têm o carácter duma verdadeira imobilização, devendo, por isso, fazer parte do custo de investimento (Soares et al, 2007: 84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38080"/>
            <a:ext cx="8001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Necessidades de fundo de maneio (NFM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empresa adquire mercadorias ou matérias que não vende ou consome de imediato e que ficam imobilizadas durante um determinado período de tempo; depois tem de manter em permanência stocks mínimos (ou de segurança)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empresa não recebe logo o pagamento das vendas que efectua, tendo de conceder crédito aos clientes; a prazo, um determinado montante de crédito está sempre a ser concedido pela empresa (é também uma imobilização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38080"/>
            <a:ext cx="8001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Necessidades de fundo de maneio (NFM)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o mesmo tempo, a empresa não paga de imediato todas as compras que realiza; beneficia, assim, dum crédito concedido pelos fornecedores (financiamento feito à empresa por estes); a prazo, dispõe dum crédito que manterá em permanênc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619280"/>
            <a:ext cx="80010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omponentes das NFM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NFM =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Existências + Clientes – Fornecedores + Reserva de 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esouraria + ou - Estad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Volume de existências: prazo médio de existências (PME) vigente na indústri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5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Reserva de tesourari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Componentes das NFM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rédito concedido aos clientes: prazo médio de recebimentos  (PMR) vigente na indústri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rédito obtido dos fornecedores: prazo médio de pagamentos  (PMP) vigente na indústri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Estado: prazos de pagamento de IVA, IRS e TSU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orque os projectos têm valor residu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eríodo de vida útil (ou duração) do projecto raramente coincide com a duração (ou vida útil) dos principais investimentos; determinados bens de investimento (imobilizações) como construções ou certos equipamentos têm, por essa altura, ainda valor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s NFM podem ser recuperada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exploração do projecto pode ter originado efeitos negativos no ambiente e na paisagem que terão de ser corrigid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valor residual do projecto inclu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valor dos activos (imobilizações) no fim da duração do projecto; é um proveito e uma entrada suplementar de fundos no último ano de vida do projec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NFM; são uma entrada ou saída de fundos consoante o seu valor é positivo ou negativ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Fases da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ervisão e contro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que acompanha o período de vida útil do projec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ex-po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é feita no final do período de vida útil do projecto, tendo importância decisiva para a reestruturação, expansão do projecto ou novas ideias de investim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O valor residual do projecto inclu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rrecção dos efeitos negativos no ambiente e na paisagem quando há uma responsabilidade financeira associada; é um custo e uma saída de fundos no fim da vida do projec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entuais impostos (IRC) sobre as mais valias da alienação de imobilizações; é uma saída de fun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6600"/>
                </a:solidFill>
                <a:latin typeface="Verdana"/>
              </a:rPr>
              <a:t>Duração do Investiment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duração do período em que o investimento gera benefícios líquidos positivos é uma variável muito importante na análise, uma vez que condiciona a rendibilidade do projecto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É o número de períodos (anos) em que se considera que a exploração do projecto é viável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É o número de períodos para os quais se determinam os fluxos previsionais de proveitos e custo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mo definir a duração dum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la duração física (vida útil) dos bens de investimento principai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la obsolescência ou duração económica dos bens de investimento principai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la duração contabilística, ou seja, pelos períodos de amortização mínimos definidos pela administração fisc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la duração da aceitação dos bens e serviços produzidos no mercado ou duração da vida do produ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mo definir a duração dum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duração económica e da vida do produto são as que condicionam o período de duração do projec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duração a considerar para o projecto será a duração económica se esta for inferior à duração da vida do produ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duração a considerar para o projecto será a duração da vida do produto se esta for inferior à duração económ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3520" indent="-810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Amortizaçõ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 termos contabilísti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lecte a perda de valor sofrida pelos activos imobilizados em cada exercíc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 termos económi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lecte a repartição do custo das imobilizações pelos diversos exercícios em que elas são us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3520" indent="-810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Amortizaçõ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 termos financei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lecte a necessidade de garantir que quando determinada imobilização chegue ao fim da sua vida útil, estejam disponíveis na empresa os recursos financeiros necessários para a substitui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mortizaçõ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custos contabilizados não correspondem a desembolsos efectivos, pelo que os fundos retidos possibilitam a substituição dos imobilizados que chegam ao fim da sua vida útil por outros de características semelhantes (em economias não inflacionadas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mortizaçõ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valores devem ser calculados considerando em cada rubrica as taxas máximas de amortização admitidas como custos fisc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ão amortizáveis os bens imobilizados que não são considerados perpétuos, ou seja, que estão sujeitos a depreciações progressivas devido ao uso e ao tempo e que têm uma vida útil fini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Demonstração de resultados (D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ara os proveitos e custos previsionais ocorridos ao longo de um determinado período de tempo (trimestre, semestre ou ano). A diferença entre os proveitos e os custos constituirá o resultado líquido (ou lucro) da empresa durante o período considerad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mite determinar a capacidade que o projecto tem para gerar resultados positivos ou negativos, período a período ( rendibilidade líquida positiva ou negativa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Demonstração de resultados (D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flecte a parte real ou produtiva (económica) da empres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s fluxos financeiros a usar na decisão baseiam-se no resultado líquido prevision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mpresari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feita na perspectiva da ou das entidades directamente responsáveis, em função dos objectivos de natureza empresarial ou privada por elas visados. A análise é chamada de empresarial ou financei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rutura e  resultados principais da D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operacional, ou seja, o resultado gerado pela actividade principal da empresa. É obtido pela diferença entre as vendas da empresa e os custos operacionais (compra de mercadorias e matérias-primas, salários e encargos, custos gerais de produção e amortização do imobilizad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financeiro, que resulta da diferença entre proveitos e custos de natureza essencialmente financeira (juros pagos e recebidos, descontos de pronto pagamento obtidos e concedidos, rendimentos e encargos de participações de capital, etc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rutura e  resultados principais da D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extraordinário que abrange os custos e proveitos com um carácter inesperado (sinistros, multas, dívidas incobráveis ou recuperadas, etc.) ou meramente pontual (por exemplo, as mais ou menos valias resultantes da alienação de componentes do activo imobilizad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líquido (RL), que resulta da soma algébrica das três componentes anteriores, deduzida do IRC. O Resultado Líquido faz a ligação entre Demonstração de Resultados e Balanço, sendo também incluído nesse últim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a DR (proveitos anuai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de vendas de produtos e mercadori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de prestações de serviç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ubsídios recebidos destinados à exploraçã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suplementares e outras receitas (de actividades que não constituem o objectivo da empres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financeiras correntes (juros de depósitos à ordem, descontos obtido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ceitas de aplicações financeiras (juros de obrigações, dividendos de acções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Utilização de provisõ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a DR (custos anuai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com compras e consumos de matérias-primas, subsidiárias e de consumo, mercadorias e embalagens (CMVMC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com fornecimentos e serviços externos (FS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com pessoal (remunerações, ordenados, salários, encargos sociais, seguros, subsídio de alimentação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com impostos (directos e indirecto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ustos financeiros (juros, descontos, serviços bancários prestados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utros custos e encargos (ofertas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mortizações e reintegrações (do imobilizado e dos custos plurianuai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visõ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roveitos, Vendas e Prestações de Serviç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eço unitário - indicar, para cada um dos produtos/serviços que a empresa irá vender, qual o seu preço unitário de vend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antidades Vendidas - indicar quais os produtos/serviços que se espera vender (em quantidades) no primeiro ano de actividade e seguin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ara se projectar as vendas para os anos seguintes ao primeiro ano, deve ter-se em conta as taxas de crescimento esperadas do preço unitário e das quant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ornecimentos e Serviços Extern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ão serviços prestados por entidades externas à empresa no âmbito da sua actividade normal (energia eléctrica, combustíveis, seguros, rendas, água, comunicações, etc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É necessário antever qual o custo médio mensal que a empresa prevê vir a ter com cada uma dessas despesas (valores sem IVA pois o IVA não é um custo para a empres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ornecimentos e Serviços Extern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cálculo dos valores anuais é efectuado tendo em conta o número de meses de exploração e a taxa de crescimento dos preços (ou inflaçã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á duas categorias: aqueles que são estruturais e não dependem da actividade da empresa (custos fixos) e os que são função da actividade da empresa (custos variávei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ustos com o Pesso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finir o pessoal necessário (quadro de colaboradores) para a empresa laborar e quais as suas remunerações brutas mensais para cada categoria profission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tender ao incremento anual dos salários para cada ano (taxa de crescimento dos Salário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ém do vencimento há outros custos para a empresa associados ao trabalho: segurança social, seguros de acidentes de trabalho, subsídio de alimentação, higiene e segurança no trabalho, etc.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Demonstração de resul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ustos com o Pesso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gurança Social - a taxa de segurança social que a empresa pagará sobre as remunerações é de 23,75 % (trabalhadores) ou 21,25% (gerênci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guro de Acidentes de Trabalho - o custo representa, em média, 1 a 2,5 % da massa salari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tenções de Colaboradores - os valores são calculados com base na taxa de 11% para o trabalhador; a retenção de IRS varia consoante o rendimento do trabalhado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Saldos de Tesouraria/Planos Financei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280" y="175068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gestão da tesouraria consiste no conjunto de medidas, instrumentos e técnicas que visam assegurar que a empresa disponha, em diversos momentos, de recursos financeiros suficientes para satisfazer os seus compromissos de curto praz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ómica, Social, Ambiental, ou Colectiv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feita na perspectiva do conjunto dos agentes económicos e sociais que integram a colectividade, em função de objectivos de natureza económica (por exemplo eficiência de utilização de recursos ou substituição de importações) e social (equidade na distribuição de rendimentos, protecção do ambiente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Saldos de Tesouraria/Planos Financei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necessidade de uma gestão de tesouraria cuidada e rigorosa advém de dois aspectos fundamenta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2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s despesas e as receitas das empresas tendem a ocorrer em momentos distint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2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ão existe uma coincidência temporal entre o momento da concretização da compra/venda e o do respectivo pagamento/recebimen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r estes dois motivos pode acontecer que uma empresa lucrativa, aparentemente viável a médio e longo prazo, possa ter dificuldade em saldar as suas dívidas de curto praz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Saldos de Tesouraria/Planos Financei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75068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tes mapas mostram a capacidade do projecto para gerar os meios financeiros necessários ao seu financiamen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 mapa de tesouraria previsional efectuam-se os registos de todos os pagamentos e recebimentos previst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penas se devem registar os valores que saem ou que entram nos períodos em que realmente se espera que ocorram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Saldos de Tesouraria/Planos Financei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regra do equilíbrio financeiro deve ser sempre respeitada: as necessidades financeiras de médio e longo prazo, como sejam os investimentos em capital fixo, devem ser financiadas no médio e longo prazo; as necessidades de curto prazo devem, pelo contrário, ser financiadas no curto praz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62000" indent="-51912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á várias fontes de financiamento a considerar: capitais próprios, empréstimos de sócios, meios libertos pelo próprio projecto (auto-financiamento), subsídios ao investimento, empréstimos bancários , leasing entre outr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0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50960" indent="-5684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Verdana"/>
              </a:rPr>
              <a:t>Balanç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0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a geral da empresa na qual estão reunidos todos os elementos patrimoniais daquela e onde se evidencia a situação líquida por diferença entre o activo e o passivo (a situação patrimoni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ressão da relação existente entre o activo, o passivo e a situação líquid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m “fotográfica” da posição financeira global da empresa (Soare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6659640" y="3141720"/>
            <a:ext cx="1944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2700360" y="3213000"/>
            <a:ext cx="3384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76720" y="443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84360" y="4581360"/>
            <a:ext cx="1871640" cy="64800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826920" y="4724280"/>
            <a:ext cx="15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Verdana"/>
              </a:rPr>
              <a:t>Be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763640" y="3068640"/>
            <a:ext cx="2448000" cy="792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05092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68360" y="213372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Verdana"/>
              </a:rPr>
              <a:t>Classes de Elementos Patrimoni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2987640" y="4581360"/>
            <a:ext cx="2089080" cy="64800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987640" y="47242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Verdana"/>
              </a:rPr>
              <a:t>Dire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5651640" y="3068640"/>
            <a:ext cx="2447640" cy="792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572436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Pass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1828800" y="3933720"/>
            <a:ext cx="58896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3562200" y="3933720"/>
            <a:ext cx="578160" cy="5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084720" y="4581360"/>
            <a:ext cx="1872000" cy="64800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6227640" y="47242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Verdana"/>
              </a:rPr>
              <a:t>Obrigaçõ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7020000" y="3933720"/>
            <a:ext cx="1440" cy="5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1681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66"/>
                </a:solidFill>
                <a:latin typeface="Verdana"/>
              </a:rPr>
              <a:t>Classes de Elementos Patrimoni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812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t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11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onjunto de valores que se possui ou se tem a receber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ss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597040" indent="-539640">
              <a:lnSpc>
                <a:spcPct val="11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onjunto de valores a pagar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0960" indent="-568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cc66"/>
                </a:solidFill>
                <a:latin typeface="Verdana"/>
              </a:rPr>
              <a:t>Patrimón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50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tituem bens da empresa os edifícios, as máquinas, as mercadorias, o dinheiro em caixa, os depósitos, as ferramentas, os animais, a terra, as plantações, etc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direitos são o conjunto de dívidas a receber por parte da empresa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8400" indent="-523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obrigações representam o conjunto de dívidas a pagar pela empresa a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65200" indent="-565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cc66"/>
                </a:solidFill>
                <a:latin typeface="Verdana"/>
              </a:rPr>
              <a:t>Equação fundamental da contabilid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5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65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tivo = Passivo + Situação líquida ac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Situação líquida pass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factos patrimoniais, alterando o património, afectam os elementos da equação fundamental, mas nunca a igualdade entre os dois membros dessa equação, uma vez que a cada aplicação de fundos terá de corresponder sempre uma orig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6659640" y="3141720"/>
            <a:ext cx="1944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700360" y="3213000"/>
            <a:ext cx="3384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276720" y="443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19640" y="2565360"/>
            <a:ext cx="1871640" cy="647640"/>
          </a:xfrm>
          <a:prstGeom prst="rect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635280" y="270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Pass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684360" y="2565360"/>
            <a:ext cx="1871640" cy="6476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755640" y="2708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6084720" y="2492280"/>
            <a:ext cx="2448000" cy="7923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227640" y="2565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Situação líquida posi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2830680" y="26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5020200" y="2637000"/>
            <a:ext cx="12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2484360" y="1989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Verdana"/>
              </a:rPr>
              <a:t>Situação líquida 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684360" y="4508640"/>
            <a:ext cx="1871640" cy="6476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755640" y="465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2771640" y="4581360"/>
            <a:ext cx="3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3348000" y="4508640"/>
            <a:ext cx="1871640" cy="647640"/>
          </a:xfrm>
          <a:prstGeom prst="rect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3564000" y="465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Pass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5020200" y="4581360"/>
            <a:ext cx="12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3680" indent="-463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36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2"/>
          <p:cNvSpPr/>
          <p:nvPr/>
        </p:nvSpPr>
        <p:spPr>
          <a:xfrm>
            <a:off x="6156360" y="4437000"/>
            <a:ext cx="2448000" cy="7923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300720" y="4508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Situação líquida neg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627280" y="4005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Verdana"/>
              </a:rPr>
              <a:t>Situação líquida pas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o balanço (activos anuai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mobilizado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mobilizado (corpóreo, incorpóreo e investimentos financeiro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mortizações acumul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rculante (activo disponível e realizável)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xistências (de produtos, mercadorias e materiais consumido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ívidas de terceiros de médio e longo praz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ívidas de terceiros de curto praz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82680" indent="-387360">
              <a:lnSpc>
                <a:spcPct val="113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sponibilidades (depósitos bancários, caixa, títulos negociáve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2941560" y="3024360"/>
          <a:ext cx="3251160" cy="81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1560" y="3024360"/>
                    <a:ext cx="32511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conómica, Social, Ambiental, ou Colectiv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589120" indent="-531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valiação de projectos segundo esta perspectiva é normalmente chamada, consoante os casos, de análise de eficiência económica, análise de equidade social, análise de impacto ambiental, etc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o balanço (situação líquida/capital própri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pital Soci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erva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s transitad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sultado líquido do exercíci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ividendos antecipad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2941560" y="3024360"/>
          <a:ext cx="3251160" cy="81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1560" y="3024360"/>
                    <a:ext cx="32511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Balanço previ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35120" indent="-55404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rutura do balanço (passiv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ívidas a terceiros de médio e longo praz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0">
              <a:lnSpc>
                <a:spcPct val="111000"/>
              </a:lnSpc>
              <a:spcBef>
                <a:spcPts val="649"/>
              </a:spcBef>
              <a:buNone/>
              <a:tabLst>
                <a:tab algn="l" pos="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5960" indent="-422280" algn="just">
              <a:lnSpc>
                <a:spcPct val="15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7106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ívidas a terceiros de curto praz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2941560" y="3024360"/>
          <a:ext cx="3251160" cy="81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1560" y="3024360"/>
                    <a:ext cx="32511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endibilidade empresar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tidão de um projecto para assegurar não só a completa recuperação dos capitais investidos, como para criar um rendimento financeiro adicional suficiente para cobrir os juros de capital (próprios e alheios) e remunerar ainda a actividade de direcção do empresário e o risco que assu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Verdana"/>
              </a:rPr>
              <a:t>Projecções financei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endibilidade nacion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tidão de um projecto para contribuir para a prossecução de objectivos nacionais bem defini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60480" indent="-5191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basicamente determinada pelo valor acrescentado que o projecto gera ao longo do seu período de vida útil. As remunerações do trabalho, os juros, as rendas e os impostos são benefícios do projecto que têm repercussões a um nível mais alargado (social ou da colectividade) que os simples lucros líquidos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perador</cp:lastModifiedBy>
  <dcterms:modified xsi:type="dcterms:W3CDTF">2008-04-22T09:21:01Z</dcterms:modified>
  <cp:revision>3</cp:revision>
  <dc:subject/>
  <dc:title>Introdução às Políticas Agrárias</dc:title>
</cp:coreProperties>
</file>